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C86C-14E0-4971-B33B-218958AC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FAA2-8FFA-4275-BF5D-F20DBE13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9180-2F81-410E-A7D6-D5CEE7BC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D410-B531-4DE1-B8F3-468199D5E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1CBE-0409-4D0D-8D3F-5C3F2E98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569F-0DCD-4FEA-BCD1-7063FDDE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4B96-9418-4ADA-B341-9EEED439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38A4-9539-4D8C-A3C6-E8AD3AA7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4385-8CD6-4146-898B-D0765ABC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C78C-3C10-45F7-9B6A-2AAA4503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A32E-6FAF-44B3-BEC3-549E83AB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AD3A-9D1C-45C5-9BF8-7A9E8260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79B0-A85B-491B-BBEC-6E55852B277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SIX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Exercises 1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9081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1280" y="16668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λεγει αὐτοις∙ Γεγραπται, Ὁ οἰκος μου οἰκος προσευχης κληθησε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ἀγω ἑωρακα, και μεμαρτυρηκα ὁτι οὑτος ἐστιν ὁ υἱος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πιστευων εἰς αὐτον οὐ κρινεται∙ ὁ δε μη πιστευων ἠδη κεκριται, ὁτι οὐ πεπιστευκεν εἰς το ὀνομα του μονογενους 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υἱου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Ἰωαννης μεματυρηκεν τῃ ἀληθειᾳ∙ ταυτα λελαληκεν ὑμ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ἡμεις πεπιστευκαμεν και ἐγνωκαμεν ὁτι συ εἶ ὁ ἁγιος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εγει αὐτῳ∙ Ναι, κυριε, ἐγω πεπιστευκα ὁτι συ εἶ ὁ χριστος ὁ υἱος του θεου ὁ εἰς τον κοσμον ἐρχομεν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71280" y="1666800"/>
            <a:ext cx="914400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ὐδεις τον πατερα ἑωρακεν εἰ μη ὁ ὠν παρα του θεου, οὑτος ἑωρακεν τον πατερ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τοτε φανησεται το σημειον του υἱου του ἀνθρωπου ἐν οὐρανῳ, και ὀψοντα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rregular Future of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ραω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ν υἱον του ἀνθρωπου ἐρχομενον ἐπι των νεφελων του οὐρανου μετα δυναμεως και δοξης πολλης∙ οὑτως ἐσται ἡ παρουσια του υἱου του ἀνθρωπο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said, ‘Lord, look, here are two swords.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once his fame went out to the whole region of Galil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welve have heard his teaching and have seen his sacrif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isciple has loved the holy ones in the seven chur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Exercises 3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9153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71280" y="16668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 ἐργον μου τετελεκα, την πιστιν τετηρηκ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ιο εἰσερχομενος εἰς τον κοσμον λεγει∙ Ἐλεος θελω και οὐ θυσι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κουσας δε ὁ Ἰησους εἰπεν∙ Αὑτη ἡ ἀσθενεια οὐκ ἐστιν προς θανατον ἀλλ’ ὑπερ της δοξης του θεου, και δοξασθησεται ὁ υἱος του θεου δι’ αὐτ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νυν δε οὐπω βλεπομεν αὐτῳ τα παντα ὑποτεταγμεν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ἑπτα ἀδελφοι ἠσαν∙ και ὁ πρωτος ἐλαβεν γυναικα και ἀπεθαν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δε λεγει αὐτοις∙ Ποσους ἀρτους ἐχετε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ὑπαγετε ἰδετε. και γνοντες λεγουσιν, Πεντ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71280" y="1666800"/>
            <a:ext cx="91440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Ὃ ἠν ἀπ’ ἀρχης, ὃ ἀκηκοαμεν, ὃ πεπιστευκαμεν περι του λογου της ζωης, λελαληται ὑμιν ὑπο ἡμ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δε Ἰησους εἰπεν αὐτοις, Ἀμην λεγω ὑμιν ὁτι ὑμεις οἱ ἀκολουθησαντες μοι, ὁτε ὁ υἱος του ἀνθρωπου ἐστιν ἐπι θρονου δοξης αὐτου, και ὑμεις ἐσεσθε ἐπι δωδεκα θρονους κρινοντες τας δωδεκα φυλας του Ἰσραη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four days and four nights he prayed in the desert and saw a thousand angels in the clou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idow’s son was healed/saved immediately by her fai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n Greeks have believed the report about his co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second letter has been written teaching about patience, prayer, circumcision, immorality, and the feasts of the L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Exercises 5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571680" y="1285920"/>
            <a:ext cx="792936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 5.25-34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ὶ γυνὴ οὖσα ἐν ῥύσει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ἵματος δώδεκα ἔτη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26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καὶ πολλὰ παθοῦσα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aor. act. part. f. s.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ασχω =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uffer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ὑπὸ πολλῶν ἰατρῶ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hysicians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ὶ δαπανήσασα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απαναω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=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pend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ὰ παρ’ αὐτῆς πάντα καὶ μηδὲν ὠφεληθείσα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ὠφελεω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=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ain, benefit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λλὰ μᾶλλο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ather, instead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ς τὸ χεῖρο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orse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λθοῦσα,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27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ἀκούσασα περὶ τοῦ Ἰησοῦ, ἐλθοῦσα ἐν τῷ ὄχλῳ ὄπισθε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rom behind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ἥψατο τοῦ ἱματίου αὐτοῦ∙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28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ἔλεγεν γὰρ ὅτι Ἐὰ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ἅψωμαι 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 might touch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ἂ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ven just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ῶν ἱματίων αὐτοῦ σωθήσομαι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29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καὶ εὐθὺς ἐξηράνθη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ξηραινω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=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y up, cease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ἡ πηγὴ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pring, flow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ῦ αἵματος αὐτῆς καὶ ἔγνω τῷ σώματι ὅτι ἴαται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perf. pass. of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ἰαομαι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–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 heal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πὸ τῆς μάστιγο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isease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Exercises 6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00040" y="1571760"/>
            <a:ext cx="7929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Gentium"/>
              </a:rPr>
              <a:t>30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ὶ εὐθὺς ὁ Ἰησοῦς ἐπιγνοὺς ἐν ἑαυτῷ τὴν ἐξ αὐτοῦ δύναμιν ἐξελθοῦσαν ἐπιστραφεὶς ἐν τῷ ὄχλῳ ἔλεγεν, Τίς μου ἥψατο τῶν ἱματίω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entium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ὶ ἔλεγον αὐτῷ οἱ μαθηταὶ αὐτοῦ, Βλέπεις τὸν ὄχλον συνθλίβοντά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ress upon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ε καὶ λέγεις, Τίς μου ἥψατο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32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καὶ περιεβλέπετο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ερι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+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βλεπω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ἰδεῖν τὴν τοῦτο ποιήσασαν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33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ἡ δὲ γυνὴ φοβηθεῖσα καὶ τρέμουσα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ρεμω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=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remble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, εἰδυῖα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knowing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ὃ γέγονεν αὐτῇ, ἦλθεν καὶ προσέπεσε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ροσ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+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πιπτω] αὐτῷ καὶ εἶπεν αὐτῷ πᾶσαν τὴν ἀλήθειαν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34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ὁ δὲ εἶπεν αὐτῇ, Θυγάτηρ, ἡ πίστις σου σέσωκέν σε∙ ὕπαγε εἰς εἰρήνην καὶ ἴσθι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pres. imperativ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entium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sing.,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μ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ὑγιὴ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ealthy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πὸ τῆς μάστιγός σ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3:32:13Z</dcterms:created>
  <dc:creator>Sarah</dc:creator>
  <dc:description/>
  <dc:language>en-US</dc:language>
  <cp:lastModifiedBy>Sarah</cp:lastModifiedBy>
  <dcterms:modified xsi:type="dcterms:W3CDTF">2009-07-09T19:02:25Z</dcterms:modified>
  <cp:revision>27</cp:revision>
  <dc:subject/>
  <dc:title>Slide 1</dc:title>
</cp:coreProperties>
</file>